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7B86-9DAE-4DA1-9567-3960F15E3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0FB7-867E-4AA5-9C1C-2A24F0CB5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9C51-AF0D-4E6D-A45B-FEA221EE9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0EF1-D599-4B1A-86D4-0A642D95F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B74F-A66F-4E02-8294-5608DA213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7106-756B-4E6F-933D-2E8379A20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3E19-E9A7-46ED-A0A4-365FB79AC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94EC-2CB1-47B7-B99B-A929551FF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3836-F5F0-49F4-9F23-E07AED35D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965B-8995-4001-B796-FA0B6941E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C472-7B3D-43F4-9F90-021A608DC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6C93-E6A2-457D-A428-24CA9D17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7CEA9-68FE-4928-B70A-4AFE64D399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imes New Roman"/>
              </a:rPr>
              <a:t>Anapo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: Starting Wind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156360" y="1203480"/>
            <a:ext cx="275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an IDL licence (&gt;5.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63914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Anapol: Customize parameter list (2/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320" y="685800"/>
            <a:ext cx="373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lect the appropriate product description file in the ANAPOL direc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972480" y="685800"/>
            <a:ext cx="2044440" cy="61340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7086600" y="4114800"/>
            <a:ext cx="1600200" cy="3049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3816360" y="679320"/>
            <a:ext cx="5327640" cy="61023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52280" y="4267080"/>
            <a:ext cx="352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ment the lines corresponding to the parameters you are not interested 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Anapol: Customize parameter list (3/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90920" y="838080"/>
            <a:ext cx="6527520" cy="58546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76320" y="1555920"/>
            <a:ext cx="245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rameter droplist shows a reduced set of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62000" y="1066680"/>
            <a:ext cx="6391080" cy="5715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imes New Roman"/>
              </a:rPr>
              <a:t>Anapo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: POLDER product se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1371600"/>
            <a:ext cx="1523880" cy="38088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715000" y="3429000"/>
            <a:ext cx="3181320" cy="23986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6320" y="762120"/>
            <a:ext cx="6467400" cy="57830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imes New Roman"/>
              </a:rPr>
              <a:t>Anapo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: Area se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280" y="1600200"/>
            <a:ext cx="1524240" cy="144792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613560" y="127944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a Selection using the mous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613560" y="2193840"/>
            <a:ext cx="230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the numeric fie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553080" y="3048120"/>
            <a:ext cx="251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zoom button allows a more precise area sel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38080" y="2819520"/>
            <a:ext cx="914400" cy="38088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629400" y="4800600"/>
            <a:ext cx="2514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rowse button (level 1 product only) produces a browse image of the selected are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280" y="3048120"/>
            <a:ext cx="914400" cy="38088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828800" y="1143000"/>
            <a:ext cx="4440240" cy="44308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 rot="10800000">
            <a:off x="4343400" y="1447560"/>
            <a:ext cx="2286000" cy="457200"/>
          </a:xfrm>
          <a:custGeom>
            <a:avLst/>
            <a:gdLst>
              <a:gd name="textAreaLeft" fmla="*/ 285480 w 2286000"/>
              <a:gd name="textAreaRight" fmla="*/ 2000520 w 22860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6320" y="1003320"/>
            <a:ext cx="6453000" cy="577836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imes New Roman"/>
              </a:rPr>
              <a:t>Anapo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: Read Produ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8080" y="3276720"/>
            <a:ext cx="914400" cy="38088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1447920"/>
            <a:ext cx="8550360" cy="3718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utput Log window shows information abou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arameters that have been 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===================================   NON-DIRECTIONAL PARAMETERS  ========================================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Name         Min    Max   Unit   ------ Unvalid ------   ------  Dummy  ------   ------  Satur  -----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Altitude   36.0 3376.0   meters -35000      0 [ 0.0%]   -32767    100 [ 0.6%]    32767      0 [ 0.0%]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Solar Azim.  153.0  190.5     deg. -35000      0 [ 0.0%]        0    100 [ 0.6%]   -35000      0 [ 0.0%]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=====================================  DIRECTIONAL PARAMETERS  ===========================================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Name         Min    Max   Unit   ------ Unvalid ------   ------  Dummy  ------   ------  Satur  -----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Sol. Zen Angle   38.2   55.3     deg.   -999      0 [ 0.0%]      -99 265796 [54.7%]     -999      0 [ 0.0%]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View Zen Angle    0.1   70.7     deg.   -999      0 [ 0.0%]      -99 265796 [54.7%]     -999      0 [ 0.0%]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Rel. Azim. Ang    0.0  360.0     deg.   -999      0 [ 0.0%]      -99 265796 [54.7%]     -999      0 [ 0.0%]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Ref_443   -1.9   82.8        % -35000      0 [ 0.0%]   -32767 269188 [55.4%]    32767     78 [ 0.0%]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Ref_565   -3.6   58.7        % -35000      0 [ 0.0%]   -32767 268779 [55.3%]    32767   1068 [ 0.2%]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Ref_670   -4.1   71.7        % -35000      0 [ 0.0%]   -32767 269148 [55.4%]    32767    205 [ 0.0%]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Ref_865   -1.0   72.9        % -35000      0 [ 0.0%]   -32767 269884 [55.5%]    32767    303 [ 0.1%]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RefPol_443  -64.0    5.7        % -35000      0 [ 0.0%]   -32767 269188 [55.4%]    32767     78 [ 0.0%]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RefPol_670  -59.2    5.7        % -35000      0 [ 0.0%]   -32767 269148 [55.4%]    32767    205 [ 0.0%]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RefPol_865  -53.6    5.3        % -35000      0 [ 0.0%]   -32767 269884 [55.5%]    32767    303 [ 0.1%]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3600" y="920880"/>
            <a:ext cx="6459480" cy="5784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imes New Roman"/>
              </a:rPr>
              <a:t>Anapo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: Data Visual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1905120" y="3505320"/>
            <a:ext cx="3314880" cy="459720"/>
            <a:chOff x="1905120" y="3505320"/>
            <a:chExt cx="3314880" cy="459720"/>
          </a:xfrm>
        </p:grpSpPr>
        <p:sp>
          <p:nvSpPr>
            <p:cNvPr id="76" name=""/>
            <p:cNvSpPr/>
            <p:nvPr/>
          </p:nvSpPr>
          <p:spPr>
            <a:xfrm>
              <a:off x="2587320" y="3505320"/>
              <a:ext cx="26326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3300"/>
                  </a:solidFill>
                  <a:latin typeface="Times New Roman"/>
                </a:rPr>
                <a:t>Parameter Sele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905120" y="3581280"/>
              <a:ext cx="609480" cy="228600"/>
            </a:xfrm>
            <a:prstGeom prst="leftArrow">
              <a:avLst>
                <a:gd name="adj1" fmla="val 50000"/>
                <a:gd name="adj2" fmla="val 66654"/>
              </a:avLst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1676520" y="3886200"/>
            <a:ext cx="5333760" cy="1191240"/>
            <a:chOff x="1676520" y="3886200"/>
            <a:chExt cx="5333760" cy="1191240"/>
          </a:xfrm>
        </p:grpSpPr>
        <p:sp>
          <p:nvSpPr>
            <p:cNvPr id="79" name=""/>
            <p:cNvSpPr/>
            <p:nvPr/>
          </p:nvSpPr>
          <p:spPr>
            <a:xfrm>
              <a:off x="2362320" y="3886200"/>
              <a:ext cx="4647960" cy="119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Selection of one particular seque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Loop through sequences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 (Directional parameters only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676520" y="3962520"/>
              <a:ext cx="609480" cy="228600"/>
            </a:xfrm>
            <a:prstGeom prst="leftArrow">
              <a:avLst>
                <a:gd name="adj1" fmla="val 50000"/>
                <a:gd name="adj2" fmla="val 66654"/>
              </a:avLst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676520" y="4267080"/>
              <a:ext cx="609480" cy="228600"/>
            </a:xfrm>
            <a:prstGeom prst="leftArrow">
              <a:avLst>
                <a:gd name="adj1" fmla="val 50000"/>
                <a:gd name="adj2" fmla="val 66654"/>
              </a:avLst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0" y="4572000"/>
            <a:ext cx="1523880" cy="53352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38680" y="1371600"/>
            <a:ext cx="342900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verlay geometry 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iew Zen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Principal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Phase A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Off Glint Ang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6320" y="5181480"/>
            <a:ext cx="8534160" cy="459720"/>
            <a:chOff x="76320" y="5181480"/>
            <a:chExt cx="8534160" cy="459720"/>
          </a:xfrm>
        </p:grpSpPr>
        <p:sp>
          <p:nvSpPr>
            <p:cNvPr id="85" name=""/>
            <p:cNvSpPr/>
            <p:nvPr/>
          </p:nvSpPr>
          <p:spPr>
            <a:xfrm>
              <a:off x="76320" y="5181480"/>
              <a:ext cx="1447560" cy="304920"/>
            </a:xfrm>
            <a:prstGeom prst="ellipse">
              <a:avLst/>
            </a:prstGeom>
            <a:noFill/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209680" y="5181480"/>
              <a:ext cx="64008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Times New Roman"/>
                </a:rPr>
                <a:t>Overlay Ma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with high-resolution option (slower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600200" y="5257800"/>
              <a:ext cx="533520" cy="228600"/>
            </a:xfrm>
            <a:prstGeom prst="leftArrow">
              <a:avLst>
                <a:gd name="adj1" fmla="val 50000"/>
                <a:gd name="adj2" fmla="val 58346"/>
              </a:avLst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152280" y="5562720"/>
            <a:ext cx="7696440" cy="1054080"/>
            <a:chOff x="152280" y="5562720"/>
            <a:chExt cx="7696440" cy="1054080"/>
          </a:xfrm>
        </p:grpSpPr>
        <p:sp>
          <p:nvSpPr>
            <p:cNvPr id="89" name=""/>
            <p:cNvSpPr/>
            <p:nvPr/>
          </p:nvSpPr>
          <p:spPr>
            <a:xfrm>
              <a:off x="152280" y="5562720"/>
              <a:ext cx="1447920" cy="990360"/>
            </a:xfrm>
            <a:prstGeom prst="ellipse">
              <a:avLst/>
            </a:prstGeom>
            <a:noFill/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666880" y="5791320"/>
              <a:ext cx="518184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ser defined scaling, or automatic based on 5%-95% of cumulative histogra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676520" y="5943600"/>
              <a:ext cx="838080" cy="304920"/>
            </a:xfrm>
            <a:prstGeom prst="leftArrow">
              <a:avLst>
                <a:gd name="adj1" fmla="val 50000"/>
                <a:gd name="adj2" fmla="val 68713"/>
              </a:avLst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609480" y="2971800"/>
            <a:ext cx="6058440" cy="1066680"/>
            <a:chOff x="609480" y="2971800"/>
            <a:chExt cx="6058440" cy="1066680"/>
          </a:xfrm>
        </p:grpSpPr>
        <p:sp>
          <p:nvSpPr>
            <p:cNvPr id="93" name=""/>
            <p:cNvSpPr/>
            <p:nvPr/>
          </p:nvSpPr>
          <p:spPr>
            <a:xfrm>
              <a:off x="609480" y="3581280"/>
              <a:ext cx="1295640" cy="4572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06080" y="2971800"/>
              <a:ext cx="44618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ree parameters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0" lang="en-US" sz="2400" spc="-1" strike="noStrike">
                  <a:solidFill>
                    <a:srgbClr val="00ff00"/>
                  </a:solidFill>
                  <a:latin typeface="Times New Roman"/>
                </a:rPr>
                <a:t>G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composi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3276720" y="685800"/>
            <a:ext cx="4421160" cy="825480"/>
            <a:chOff x="3276720" y="685800"/>
            <a:chExt cx="4421160" cy="825480"/>
          </a:xfrm>
        </p:grpSpPr>
        <p:sp>
          <p:nvSpPr>
            <p:cNvPr id="96" name=""/>
            <p:cNvSpPr/>
            <p:nvPr/>
          </p:nvSpPr>
          <p:spPr>
            <a:xfrm>
              <a:off x="3276720" y="762120"/>
              <a:ext cx="1066680" cy="457200"/>
            </a:xfrm>
            <a:prstGeom prst="ellipse">
              <a:avLst/>
            </a:prstGeom>
            <a:noFill/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495680" y="685800"/>
              <a:ext cx="320220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isualization resolu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oom for detai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2590920" y="5791320"/>
            <a:ext cx="6172200" cy="761760"/>
            <a:chOff x="2590920" y="5791320"/>
            <a:chExt cx="6172200" cy="761760"/>
          </a:xfrm>
        </p:grpSpPr>
        <p:sp>
          <p:nvSpPr>
            <p:cNvPr id="99" name=""/>
            <p:cNvSpPr/>
            <p:nvPr/>
          </p:nvSpPr>
          <p:spPr>
            <a:xfrm>
              <a:off x="2590920" y="5791320"/>
              <a:ext cx="3581640" cy="761760"/>
            </a:xfrm>
            <a:prstGeom prst="ellipse">
              <a:avLst/>
            </a:prstGeom>
            <a:noFill/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53440" y="5867280"/>
              <a:ext cx="22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cale and Un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imes New Roman"/>
              </a:rPr>
              <a:t>Anapo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: Data Analysis (1/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638680" y="549360"/>
            <a:ext cx="358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 single click in the image generates three windo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76320" y="289080"/>
            <a:ext cx="8229600" cy="2835000"/>
            <a:chOff x="76320" y="289080"/>
            <a:chExt cx="8229600" cy="2835000"/>
          </a:xfrm>
        </p:grpSpPr>
        <p:sp>
          <p:nvSpPr>
            <p:cNvPr id="106" name=""/>
            <p:cNvSpPr/>
            <p:nvPr/>
          </p:nvSpPr>
          <p:spPr>
            <a:xfrm>
              <a:off x="2133720" y="1387440"/>
              <a:ext cx="6172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This window shows the physical values of all parameters for the selected pix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7" name="" descr=""/>
            <p:cNvPicPr/>
            <p:nvPr/>
          </p:nvPicPr>
          <p:blipFill>
            <a:blip r:embed="rId1"/>
            <a:stretch/>
          </p:blipFill>
          <p:spPr>
            <a:xfrm>
              <a:off x="76320" y="289080"/>
              <a:ext cx="1990440" cy="283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" name=""/>
          <p:cNvGrpSpPr/>
          <p:nvPr/>
        </p:nvGrpSpPr>
        <p:grpSpPr>
          <a:xfrm>
            <a:off x="0" y="2209680"/>
            <a:ext cx="9120240" cy="2442960"/>
            <a:chOff x="0" y="2209680"/>
            <a:chExt cx="9120240" cy="2442960"/>
          </a:xfrm>
        </p:grpSpPr>
        <p:sp>
          <p:nvSpPr>
            <p:cNvPr id="109" name=""/>
            <p:cNvSpPr/>
            <p:nvPr/>
          </p:nvSpPr>
          <p:spPr>
            <a:xfrm>
              <a:off x="0" y="3095640"/>
              <a:ext cx="71629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This window opens only for standard “directional” products.  It depicts the viewing geometry of successive sequences.  Blue lines indicate phase or scattering angle if the corresponding boxes are checked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0" name="" descr=""/>
            <p:cNvPicPr/>
            <p:nvPr/>
          </p:nvPicPr>
          <p:blipFill>
            <a:blip r:embed="rId2"/>
            <a:stretch/>
          </p:blipFill>
          <p:spPr>
            <a:xfrm>
              <a:off x="7086600" y="2209680"/>
              <a:ext cx="2033640" cy="2157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1" name=""/>
          <p:cNvGrpSpPr/>
          <p:nvPr/>
        </p:nvGrpSpPr>
        <p:grpSpPr>
          <a:xfrm>
            <a:off x="60480" y="4648320"/>
            <a:ext cx="9007200" cy="2165400"/>
            <a:chOff x="60480" y="4648320"/>
            <a:chExt cx="9007200" cy="2165400"/>
          </a:xfrm>
        </p:grpSpPr>
        <p:sp>
          <p:nvSpPr>
            <p:cNvPr id="112" name=""/>
            <p:cNvSpPr/>
            <p:nvPr/>
          </p:nvSpPr>
          <p:spPr>
            <a:xfrm>
              <a:off x="3048120" y="4788000"/>
              <a:ext cx="601956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This window shows the selected parameter as a function of viewing geometry.  The X-axis is either the View Zenith angle, or the phase angle or the off-glint angle.  Negative values are used to distinguish ≠ sequence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3" name="" descr=""/>
            <p:cNvPicPr/>
            <p:nvPr/>
          </p:nvPicPr>
          <p:blipFill>
            <a:blip r:embed="rId3"/>
            <a:stretch/>
          </p:blipFill>
          <p:spPr>
            <a:xfrm>
              <a:off x="60480" y="4648320"/>
              <a:ext cx="2911320" cy="2165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imes New Roman"/>
              </a:rPr>
              <a:t>Anapo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: Data Analysis (2/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86400" y="54936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n area selection (with the mouse) opens two window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5720" y="6172200"/>
            <a:ext cx="59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images can be saved using the File men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76320" y="1174680"/>
            <a:ext cx="8839080" cy="2178000"/>
            <a:chOff x="76320" y="1174680"/>
            <a:chExt cx="8839080" cy="2178000"/>
          </a:xfrm>
        </p:grpSpPr>
        <p:sp>
          <p:nvSpPr>
            <p:cNvPr id="120" name=""/>
            <p:cNvSpPr/>
            <p:nvPr/>
          </p:nvSpPr>
          <p:spPr>
            <a:xfrm>
              <a:off x="2209680" y="1555560"/>
              <a:ext cx="6705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This window depicts the viewing geometry for all selected pixels and their successive sequences.  Red box indicates the current sequenc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1" name="" descr=""/>
            <p:cNvPicPr/>
            <p:nvPr/>
          </p:nvPicPr>
          <p:blipFill>
            <a:blip r:embed="rId1"/>
            <a:stretch/>
          </p:blipFill>
          <p:spPr>
            <a:xfrm>
              <a:off x="76320" y="1174680"/>
              <a:ext cx="2044440" cy="217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" name=""/>
          <p:cNvGrpSpPr/>
          <p:nvPr/>
        </p:nvGrpSpPr>
        <p:grpSpPr>
          <a:xfrm>
            <a:off x="49320" y="3657600"/>
            <a:ext cx="8866080" cy="2166840"/>
            <a:chOff x="49320" y="3657600"/>
            <a:chExt cx="8866080" cy="2166840"/>
          </a:xfrm>
        </p:grpSpPr>
        <p:sp>
          <p:nvSpPr>
            <p:cNvPr id="123" name=""/>
            <p:cNvSpPr/>
            <p:nvPr/>
          </p:nvSpPr>
          <p:spPr>
            <a:xfrm>
              <a:off x="3048120" y="3962520"/>
              <a:ext cx="58672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This window shows the selected parameter as a function of viewing geometry.  The X-axis is either the viewing angle or the phase angle or the off-glint angl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4" name="" descr=""/>
            <p:cNvPicPr/>
            <p:nvPr/>
          </p:nvPicPr>
          <p:blipFill>
            <a:blip r:embed="rId2"/>
            <a:stretch/>
          </p:blipFill>
          <p:spPr>
            <a:xfrm>
              <a:off x="49320" y="3657600"/>
              <a:ext cx="2922480" cy="2166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imes New Roman"/>
              </a:rPr>
              <a:t>Anapo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: Data Analysis (3/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00400" y="1828800"/>
            <a:ext cx="571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f an area is selected and the current parameter is non-directional or no angle is selected, one shows an histogram and a cumulative histogram of the parame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52280" y="914400"/>
            <a:ext cx="292572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Anapol: Customize parameter list (1/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320" y="685800"/>
            <a:ext cx="2590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me POLDER products offer a very large list of parameters, many of them are not useful for most user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625840" y="604800"/>
            <a:ext cx="6441840" cy="62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70-01-01T06:00:20Z</dcterms:created>
  <dc:creator>Francois Marie Bréon</dc:creator>
  <dc:description/>
  <dc:language>en-US</dc:language>
  <cp:lastModifiedBy>François-Marie Bréon</cp:lastModifiedBy>
  <dcterms:modified xsi:type="dcterms:W3CDTF">2003-06-04T20:35:14Z</dcterms:modified>
  <cp:revision>23</cp:revision>
  <dc:subject/>
  <dc:title>Anapol : Starting Window</dc:title>
</cp:coreProperties>
</file>