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6C0-E7B1-4643-9D0F-AA7E5AB0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C6C-5CB0-4716-9D06-00F782F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B53-7A5C-486C-8D06-DE0CF77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C68-4285-4D93-A0D7-87CCDEAB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47A-202B-4AE7-AEB0-11BB033F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8E4-2A44-43C6-94A6-903EB788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158-8570-4A07-8DCE-CFB3BA4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4DF-13D3-4DF2-8515-1D43A1C9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4C1-91A3-40A5-8ACB-A3E19698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5F8-1B63-4B75-A697-04B28E7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0DD-B6F0-4213-BA50-4890075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CBA-1E7B-4510-B289-CC159B0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783D-76EF-402D-B814-046C55B45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Start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20348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n IDL licence (&gt;5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3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2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858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the appropriate product description file in the ANAPOL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72480" y="685800"/>
            <a:ext cx="2044440" cy="613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86600" y="4114800"/>
            <a:ext cx="1600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16360" y="679320"/>
            <a:ext cx="5327640" cy="610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42670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ent the lines corresponding to the parameters you are not interest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3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527520" cy="5854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320" y="1555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droplist shows a reduced set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000" y="1066680"/>
            <a:ext cx="63910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POLDER product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1523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181320" cy="239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6467400" cy="5783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Are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600200"/>
            <a:ext cx="152424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3560" y="127944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Selection using the m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13560" y="219384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he numer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om button allows a more precise area 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8195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8006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wse button (level 1 product only) produces a browse image of the selected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0481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4440240" cy="443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0800000">
            <a:off x="4343400" y="1447560"/>
            <a:ext cx="2286000" cy="4572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003320"/>
            <a:ext cx="6453000" cy="577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Read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767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47920"/>
            <a:ext cx="8550360" cy="371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Log window shows information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meters that have be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   NON-DIRECTIONAL PARAMETERS  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ltitude   36.0 3376.0   meters -35000      0 [ 0.0%]   -32767    100 [ 0.6%]    32767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ar Azim.  153.0  190.5     deg. -35000      0 [ 0.0%]        0    100 [ 0.6%]   -35000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==  DIRECTIONAL PARAMETERS  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. Zen Angle   38.2   55.3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View Zen Angle    0.1   70.7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l. Azim. Ang    0.0  360.0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443   -1.9   82.8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565   -3.6   58.7        % -35000      0 [ 0.0%]   -32767 268779 [55.3%]    32767   1068 [ 0.2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670   -4.1   71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865   -1.0   72.9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443  -64.0    5.7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670  -59.2    5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865  -53.6    5.3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3600" y="920880"/>
            <a:ext cx="6459480" cy="5784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3505320"/>
            <a:ext cx="3314880" cy="459720"/>
            <a:chOff x="1905120" y="3505320"/>
            <a:chExt cx="3314880" cy="459720"/>
          </a:xfrm>
        </p:grpSpPr>
        <p:sp>
          <p:nvSpPr>
            <p:cNvPr id="76" name=""/>
            <p:cNvSpPr/>
            <p:nvPr/>
          </p:nvSpPr>
          <p:spPr>
            <a:xfrm>
              <a:off x="2587320" y="3505320"/>
              <a:ext cx="263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arameter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35812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676520" y="3886200"/>
            <a:ext cx="5333760" cy="1191240"/>
            <a:chOff x="1676520" y="3886200"/>
            <a:chExt cx="5333760" cy="1191240"/>
          </a:xfrm>
        </p:grpSpPr>
        <p:sp>
          <p:nvSpPr>
            <p:cNvPr id="79" name=""/>
            <p:cNvSpPr/>
            <p:nvPr/>
          </p:nvSpPr>
          <p:spPr>
            <a:xfrm>
              <a:off x="2362320" y="3886200"/>
              <a:ext cx="4647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election of one particular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op through sequenc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Directional parameters on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42670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4572000"/>
            <a:ext cx="152388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1371600"/>
            <a:ext cx="3429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y geomet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 Zen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incipa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f Gli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5181480"/>
            <a:ext cx="8534160" cy="459720"/>
            <a:chOff x="76320" y="5181480"/>
            <a:chExt cx="8534160" cy="459720"/>
          </a:xfrm>
        </p:grpSpPr>
        <p:sp>
          <p:nvSpPr>
            <p:cNvPr id="85" name=""/>
            <p:cNvSpPr/>
            <p:nvPr/>
          </p:nvSpPr>
          <p:spPr>
            <a:xfrm>
              <a:off x="76320" y="5181480"/>
              <a:ext cx="1447560" cy="3049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5181480"/>
              <a:ext cx="6400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Overlay Ma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ith high-resolution option (slo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525780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280" y="5562720"/>
            <a:ext cx="7696440" cy="1054080"/>
            <a:chOff x="152280" y="5562720"/>
            <a:chExt cx="7696440" cy="1054080"/>
          </a:xfrm>
        </p:grpSpPr>
        <p:sp>
          <p:nvSpPr>
            <p:cNvPr id="89" name=""/>
            <p:cNvSpPr/>
            <p:nvPr/>
          </p:nvSpPr>
          <p:spPr>
            <a:xfrm>
              <a:off x="152280" y="5562720"/>
              <a:ext cx="1447920" cy="99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791320"/>
              <a:ext cx="5181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 defined scaling, or automatic based on 5%-95% of cumulative 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5943600"/>
              <a:ext cx="838080" cy="304920"/>
            </a:xfrm>
            <a:prstGeom prst="leftArrow">
              <a:avLst>
                <a:gd name="adj1" fmla="val 50000"/>
                <a:gd name="adj2" fmla="val 6871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2971800"/>
            <a:ext cx="6058440" cy="1066680"/>
            <a:chOff x="609480" y="2971800"/>
            <a:chExt cx="6058440" cy="1066680"/>
          </a:xfrm>
        </p:grpSpPr>
        <p:sp>
          <p:nvSpPr>
            <p:cNvPr id="93" name=""/>
            <p:cNvSpPr/>
            <p:nvPr/>
          </p:nvSpPr>
          <p:spPr>
            <a:xfrm>
              <a:off x="609480" y="3581280"/>
              <a:ext cx="129564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6080" y="2971800"/>
              <a:ext cx="4461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e parameters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mpos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685800"/>
            <a:ext cx="4421160" cy="825480"/>
            <a:chOff x="3276720" y="685800"/>
            <a:chExt cx="4421160" cy="825480"/>
          </a:xfrm>
        </p:grpSpPr>
        <p:sp>
          <p:nvSpPr>
            <p:cNvPr id="96" name=""/>
            <p:cNvSpPr/>
            <p:nvPr/>
          </p:nvSpPr>
          <p:spPr>
            <a:xfrm>
              <a:off x="3276720" y="762120"/>
              <a:ext cx="1066680" cy="45720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685800"/>
              <a:ext cx="3202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ualization re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om for detai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90920" y="5791320"/>
            <a:ext cx="6172200" cy="761760"/>
            <a:chOff x="2590920" y="5791320"/>
            <a:chExt cx="6172200" cy="761760"/>
          </a:xfrm>
        </p:grpSpPr>
        <p:sp>
          <p:nvSpPr>
            <p:cNvPr id="99" name=""/>
            <p:cNvSpPr/>
            <p:nvPr/>
          </p:nvSpPr>
          <p:spPr>
            <a:xfrm>
              <a:off x="2590920" y="5791320"/>
              <a:ext cx="3581640" cy="7617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3440" y="5867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 and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493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ingle click in the image generates three wind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289080"/>
            <a:ext cx="8229600" cy="2835000"/>
            <a:chOff x="76320" y="289080"/>
            <a:chExt cx="8229600" cy="2835000"/>
          </a:xfrm>
        </p:grpSpPr>
        <p:sp>
          <p:nvSpPr>
            <p:cNvPr id="106" name=""/>
            <p:cNvSpPr/>
            <p:nvPr/>
          </p:nvSpPr>
          <p:spPr>
            <a:xfrm>
              <a:off x="2133720" y="13874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physical values of all parameters for the selected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6320" y="289080"/>
              <a:ext cx="1990440" cy="28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2209680"/>
            <a:ext cx="9120240" cy="2442960"/>
            <a:chOff x="0" y="2209680"/>
            <a:chExt cx="9120240" cy="2442960"/>
          </a:xfrm>
        </p:grpSpPr>
        <p:sp>
          <p:nvSpPr>
            <p:cNvPr id="109" name=""/>
            <p:cNvSpPr/>
            <p:nvPr/>
          </p:nvSpPr>
          <p:spPr>
            <a:xfrm>
              <a:off x="0" y="309564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opens only for standard “directional” products.  It depicts the viewing geometry of successive sequences.  Blue lines indicate phase or scattering angle if the corresponding boxes are chec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086600" y="2209680"/>
              <a:ext cx="203364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60480" y="4648320"/>
            <a:ext cx="9007200" cy="2165400"/>
            <a:chOff x="60480" y="4648320"/>
            <a:chExt cx="9007200" cy="2165400"/>
          </a:xfrm>
        </p:grpSpPr>
        <p:sp>
          <p:nvSpPr>
            <p:cNvPr id="112" name=""/>
            <p:cNvSpPr/>
            <p:nvPr/>
          </p:nvSpPr>
          <p:spPr>
            <a:xfrm>
              <a:off x="3048120" y="4788000"/>
              <a:ext cx="60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 Zenith angle, or the phase angle or the off-glint angle.  Negative values are used to distinguish ≠ sequen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0480" y="4648320"/>
              <a:ext cx="2911320" cy="21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93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area selection (with the mouse) opens two wind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61722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mages can be saved using the Fil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1174680"/>
            <a:ext cx="8839080" cy="2178000"/>
            <a:chOff x="76320" y="1174680"/>
            <a:chExt cx="8839080" cy="2178000"/>
          </a:xfrm>
        </p:grpSpPr>
        <p:sp>
          <p:nvSpPr>
            <p:cNvPr id="120" name=""/>
            <p:cNvSpPr/>
            <p:nvPr/>
          </p:nvSpPr>
          <p:spPr>
            <a:xfrm>
              <a:off x="2209680" y="15555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depicts the viewing geometry for all selected pixels and their successive sequences.  Red box indicates the current sequ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76320" y="1174680"/>
              <a:ext cx="2044440" cy="21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9320" y="3657600"/>
            <a:ext cx="8866080" cy="2166840"/>
            <a:chOff x="49320" y="3657600"/>
            <a:chExt cx="8866080" cy="2166840"/>
          </a:xfrm>
        </p:grpSpPr>
        <p:sp>
          <p:nvSpPr>
            <p:cNvPr id="123" name=""/>
            <p:cNvSpPr/>
            <p:nvPr/>
          </p:nvSpPr>
          <p:spPr>
            <a:xfrm>
              <a:off x="3048120" y="3962520"/>
              <a:ext cx="586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ing angle or the phase angle or the off-glint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9320" y="3657600"/>
              <a:ext cx="2922480" cy="21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828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an area is selected and the current parameter is non-directional or no angle is selected, one shows an histogram and a cumulative histogram of th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925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1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68580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POLDER products offer a very large list of parameters, many of them are not useful for most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5840" y="604800"/>
            <a:ext cx="64418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6:00:20Z</dcterms:created>
  <dc:creator>Francois Marie Bréon</dc:creator>
  <dc:description/>
  <dc:language>en-US</dc:language>
  <cp:lastModifiedBy>François-Marie Bréon</cp:lastModifiedBy>
  <dcterms:modified xsi:type="dcterms:W3CDTF">2003-06-04T20:35:14Z</dcterms:modified>
  <cp:revision>23</cp:revision>
  <dc:subject/>
  <dc:title>Anapol : Starting Window</dc:title>
</cp:coreProperties>
</file>